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81FF-5EBC-4BE9-961A-3710429B6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02D3-4D6E-467A-BC63-09B5FC9E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1D6-64EC-487C-91E2-AC4277B8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E89-7313-42AC-89DA-F57330E8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865-0BB9-4072-BA85-C77ECD78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1FD-05AC-419B-844B-898278F3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0B0-5CC5-41AA-8DEC-305DDFE1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0B7-537C-41DD-AF79-53AA34E4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76F-A37D-4CC4-A79B-04B9A7DC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F7C-F6BD-4FAD-8A98-013937F7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E9B-32C8-4D3E-8DA7-049F3302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B4A-1393-4D0D-88FC-E4B06A6D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91C-D91A-4707-B37D-9C457250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0C9-0B1B-4B7D-B02C-A53978E1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1AD8-B4B2-4891-8349-2A8A7E8D5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1828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ie Yous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057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ie Yous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3623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2590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7"/>
          <p:cNvSpPr/>
          <p:nvPr/>
        </p:nvSpPr>
        <p:spPr>
          <a:xfrm>
            <a:off x="76320" y="2971800"/>
            <a:ext cx="1752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Angie. Yo tengo catorce años. Yo vivo en Nueva York. Yo estoy feliz y dulce.  Te amo cantar y nadar. Yo tengo cuatro hermanas. Yo soy de Egipto . Mi amo de familia y amigos . Espero oír de usted pronto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!De nada, mi alta y divertida amiga. Podemos cantar y bailar y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5715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y bien gracias. Sí, quiero y puedo ir a tu casa, Gracias mi simpática, linda y dulce amiga. ¡Hasta lueg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an amigas? ¿Quieren venir a mi casa a las  7 de trien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6:26Z</dcterms:modified>
  <cp:revision>110</cp:revision>
  <dc:subject/>
  <dc:title>Profile</dc:title>
</cp:coreProperties>
</file>